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2C8-3A60-417B-8A33-BCE50C56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62120" y="942840"/>
            <a:ext cx="5549760" cy="416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040" y="53341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ove figure shows the bottom and top views of the lower section of the nozzle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nozzle assembly (as shown in the previous figure) has a rotational axis. When mounted on a 5 degree of freedom robot, it can be used to build a wide variety of planar and curved su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yrofoam deposition nozzle may be integrated into the constriction nozzle assemblies described earlier. This figure demonstrates the concurrent deposition of Styrofoam during wall co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ncurrent Styrofoam deposition is as well possible with the previously described nozzle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n all CC nozzle implementations a roller with textured surface may be attached next to the side trowel to passively follow the nozzle and create textures on the walls created by the C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-extrusion of outer and filler materials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6DOF Nozzle Assembl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24000"/>
          </a:blip>
          <a:srcRect l="35315" t="13229" r="41566" b="7415"/>
          <a:stretch/>
        </p:blipFill>
        <p:spPr>
          <a:xfrm>
            <a:off x="0" y="228600"/>
            <a:ext cx="2057400" cy="693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01920" y="6162840"/>
            <a:ext cx="3248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42703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degrees of freedo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8564" t="22858" r="17735" b="7143"/>
          <a:stretch/>
        </p:blipFill>
        <p:spPr>
          <a:xfrm rot="20113200">
            <a:off x="4191120" y="1523880"/>
            <a:ext cx="3984480" cy="444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205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594240" cy="426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43480" cy="4343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ve control and trowel motion mechanis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6627" t="13376" r="26627" b="15502"/>
          <a:stretch/>
        </p:blipFill>
        <p:spPr>
          <a:xfrm>
            <a:off x="1523880" y="1981080"/>
            <a:ext cx="3411720" cy="431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13313" t="14375" r="13313" b="11378"/>
          <a:stretch/>
        </p:blipFill>
        <p:spPr>
          <a:xfrm>
            <a:off x="5181480" y="2133720"/>
            <a:ext cx="3473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5548320" cy="5867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ruding Styrofoam for insu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052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yer locking patte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5429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ilding variable width wal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480060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5040" y="4076640"/>
            <a:ext cx="51148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1:41:42Z</dcterms:created>
  <dc:creator> Berok</dc:creator>
  <dc:description/>
  <dc:language>en-US</dc:language>
  <cp:lastModifiedBy> Berok</cp:lastModifiedBy>
  <dcterms:modified xsi:type="dcterms:W3CDTF">2005-05-25T19:54:28Z</dcterms:modified>
  <cp:revision>4</cp:revision>
  <dc:subject/>
  <dc:title>Co-extrusion of outer and filler materials  A 6DOF Nozzle Assembly</dc:title>
</cp:coreProperties>
</file>